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4FFA-F363-4672-B857-0606A5AB85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How do changes in the environment affect organisms?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changes in the environment affect organis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ilderbeast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ilderbeast migrate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ey travel hundreds of miles every winter looking for grass to eat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Grass will only grow where it rains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erb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erbeast mig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travel hundreds of miles every winter looking for grass to e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 will only grow where it r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insects spend winter in protective cases called pupua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is butterfly is emerging from a pupa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insects spend winter in protective cases called pupu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utterfly is emerging from a pup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plants store their food for winter underground in their roots and stems.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lants store their food for winter underground in their roots and ste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quirrels store foods like nuts in the autumn to eat during the winter when there is not much food around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irrels store foods like nuts in the autumn to eat during the winter when there is not much food a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animals like tortoises, hedgehogs and bears, cannot store food to keep them warm. Instead they go to sleep in a warm sheltered place, such as undera pile of old leaves or inside an old tree trunk. This is called hibernation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nimals like tortoises, hedgehogs and bears, cannot store food to keep them warm. Instead they go to sleep in a warm sheltered place, such as undera pile of old leaves or inside an old tree trunk. This is called hibern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Living things are adapted to daily changes in their habitat……………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adapted to daily changes in their habitat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Flowers open and close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s open and c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ea anemones pull in their tentacles when the tide goes out to stop them drying out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 anemones pull in their tentacles when the tide goes out to stop them drying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Living things are adapted to seasonal changes in their habitat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adapted to seasonal changes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easonal changes in a garden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garden in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e summer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sonal changes in a gar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arden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woodland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woodland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in sprin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od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The Arctic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c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The Seashore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as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C5C5-B3D1-4A43-894C-D2A2B3639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0818-6AD3-4BBD-B8E3-37E23DB9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217E-6758-438D-8453-C88208306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D248-8DED-42D0-9093-B383917A9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434C-F6B6-42DD-97A6-B526052BF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4F7A-1833-4945-B6F8-B85D1111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931D-D2B3-4BB1-B484-B2E2A23B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2284-7A6D-4B8B-BAF1-104EA77A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C30C-0067-4E79-B699-60A22FE7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2FE8-1470-4F14-B5A8-3D415FC2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5125-096C-4FFB-AE39-84606C8A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2ABA-D731-49DE-B070-0B993F44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0D00-B20F-404E-9CDA-196263CA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F00D-56D7-4EE3-B787-5D3F705C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74F9-4378-4CAF-9459-ADD19F53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6654-C638-4456-93D0-18382C0E4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B84E-6996-470F-9783-2161F794A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6DA0-225A-4A36-9424-5BFB7185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FC11-F317-4BFD-B280-7CA3F6AF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7F8D-4735-48A3-9932-E3E88807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06DB-9C75-4FE5-8028-41A0B579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5237-2BF9-405E-BA72-E2F9EB9A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A25D-B9DD-4725-9C2B-DB6373D5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BDF5-4EE5-4709-820C-967191ED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B588-7102-4051-BF0D-3008D6EB0F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6243-58B1-4A2B-8EDA-D80C88F662B0}" type="slidenum"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Comic Sans MS"/>
              </a:rPr>
              <a:t>How do changes in the environment affect organisms?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22" name="Picture 6" descr="j0299587"/>
          <p:cNvPicPr/>
          <p:nvPr/>
        </p:nvPicPr>
        <p:blipFill>
          <a:blip r:embed="rId1"/>
          <a:stretch/>
        </p:blipFill>
        <p:spPr>
          <a:xfrm>
            <a:off x="3693960" y="3733920"/>
            <a:ext cx="1756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Comic Sans MS"/>
              </a:rPr>
              <a:t>Wilderbeas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341964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Wilderbeast </a:t>
            </a:r>
            <a:r>
              <a:rPr b="0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migrate.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They travel hundreds of miles every winter looking for grass to eat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Grass will only grow where it rains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50" name="Picture 4" descr="mso8EF63"/>
          <p:cNvPicPr/>
          <p:nvPr/>
        </p:nvPicPr>
        <p:blipFill>
          <a:blip r:embed="rId1"/>
          <a:stretch/>
        </p:blipFill>
        <p:spPr>
          <a:xfrm>
            <a:off x="3492360" y="1341360"/>
            <a:ext cx="525636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Some insects spend winter in protective cases called pupua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This butterfly is emerging from a pupa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54" name="Picture 4" descr="mso9F5D1"/>
          <p:cNvPicPr/>
          <p:nvPr/>
        </p:nvPicPr>
        <p:blipFill>
          <a:blip r:embed="rId1"/>
          <a:stretch/>
        </p:blipFill>
        <p:spPr>
          <a:xfrm>
            <a:off x="0" y="1341360"/>
            <a:ext cx="485928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552600"/>
            <a:ext cx="793116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1ddd4"/>
                </a:solidFill>
                <a:latin typeface="Comic Sans MS"/>
              </a:rPr>
              <a:t>Some plants store their food for winter underground in their roots and stems.</a:t>
            </a:r>
            <a:r>
              <a:rPr b="0" lang="en-GB" sz="4000" spc="-1" strike="noStrike">
                <a:solidFill>
                  <a:srgbClr val="d1ddd4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57" name="Picture 4" descr="msoC90F"/>
          <p:cNvPicPr/>
          <p:nvPr/>
        </p:nvPicPr>
        <p:blipFill>
          <a:blip r:embed="rId1"/>
          <a:stretch/>
        </p:blipFill>
        <p:spPr>
          <a:xfrm>
            <a:off x="1042920" y="1773360"/>
            <a:ext cx="691380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Squirrels store foods like nuts in the autumn to eat during the winter when there is not much food around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61" name="Picture 4" descr="mso3389D"/>
          <p:cNvPicPr/>
          <p:nvPr/>
        </p:nvPicPr>
        <p:blipFill>
          <a:blip r:embed="rId1"/>
          <a:stretch/>
        </p:blipFill>
        <p:spPr>
          <a:xfrm>
            <a:off x="324000" y="981000"/>
            <a:ext cx="4663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1ddd4"/>
                </a:solidFill>
                <a:latin typeface="Comic Sans MS"/>
              </a:rPr>
              <a:t>Some animals like tortoises, hedgehogs and bears, cannot store food to keep them warm. Instead they go to sleep in a warm sheltered place, such as undera pile of old leaves or inside an old tree trunk. This is called </a:t>
            </a:r>
            <a:r>
              <a:rPr b="0" lang="en-GB" sz="2000" spc="-1" strike="noStrike">
                <a:solidFill>
                  <a:srgbClr val="cc0000"/>
                </a:solidFill>
                <a:latin typeface="Comic Sans MS"/>
              </a:rPr>
              <a:t>hibernation.</a:t>
            </a:r>
            <a:endParaRPr b="0" lang="en-US" sz="20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63" name="Picture 4" descr="mso627FB"/>
          <p:cNvPicPr/>
          <p:nvPr/>
        </p:nvPicPr>
        <p:blipFill>
          <a:blip r:embed="rId1"/>
          <a:stretch/>
        </p:blipFill>
        <p:spPr>
          <a:xfrm>
            <a:off x="496800" y="1628640"/>
            <a:ext cx="3697200" cy="4608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mso66EA9"/>
          <p:cNvPicPr/>
          <p:nvPr/>
        </p:nvPicPr>
        <p:blipFill>
          <a:blip r:embed="rId2"/>
          <a:stretch/>
        </p:blipFill>
        <p:spPr>
          <a:xfrm>
            <a:off x="4400640" y="1557360"/>
            <a:ext cx="37162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Arial"/>
              </a:rPr>
              <a:t>Living things are adapted to daily changes in their habitat…………….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Daily changes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Verdana"/>
              </a:rPr>
              <a:t>Flowers open and close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27" name="Picture 4" descr="msoEB827"/>
          <p:cNvPicPr/>
          <p:nvPr/>
        </p:nvPicPr>
        <p:blipFill>
          <a:blip r:embed="rId1"/>
          <a:stretch/>
        </p:blipFill>
        <p:spPr>
          <a:xfrm>
            <a:off x="539640" y="1341360"/>
            <a:ext cx="82090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Daily changes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f8f8"/>
                </a:solidFill>
                <a:latin typeface="Verdana"/>
              </a:rPr>
              <a:t>Sea anemones pull in their tentacles when the tide goes out to stop them drying out.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30" name="Picture 4" descr="mso263F5"/>
          <p:cNvPicPr/>
          <p:nvPr/>
        </p:nvPicPr>
        <p:blipFill>
          <a:blip r:embed="rId1"/>
          <a:stretch/>
        </p:blipFill>
        <p:spPr>
          <a:xfrm rot="21466200">
            <a:off x="971640" y="1268280"/>
            <a:ext cx="720072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5640" y="2060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Comic Sans MS"/>
              </a:rPr>
              <a:t>Living things are adapted to seasonal changes in their habitat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Seasonal changes in a garden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A garden in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the summer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35" name="Picture 4" descr="mso9AC54"/>
          <p:cNvPicPr/>
          <p:nvPr/>
        </p:nvPicPr>
        <p:blipFill>
          <a:blip r:embed="rId1"/>
          <a:stretch/>
        </p:blipFill>
        <p:spPr>
          <a:xfrm>
            <a:off x="250920" y="1773360"/>
            <a:ext cx="4427280" cy="4427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mso2D81E"/>
          <p:cNvPicPr/>
          <p:nvPr/>
        </p:nvPicPr>
        <p:blipFill>
          <a:blip r:embed="rId2"/>
          <a:stretch/>
        </p:blipFill>
        <p:spPr>
          <a:xfrm>
            <a:off x="4716360" y="1700280"/>
            <a:ext cx="428472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A woodland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A woodland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in spring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39" name="Picture 4" descr="msoAA8ED"/>
          <p:cNvPicPr/>
          <p:nvPr/>
        </p:nvPicPr>
        <p:blipFill>
          <a:blip r:embed="rId1"/>
          <a:stretch/>
        </p:blipFill>
        <p:spPr>
          <a:xfrm>
            <a:off x="395280" y="1700280"/>
            <a:ext cx="4194360" cy="4392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msoC89DF"/>
          <p:cNvPicPr/>
          <p:nvPr/>
        </p:nvPicPr>
        <p:blipFill>
          <a:blip r:embed="rId2"/>
          <a:stretch/>
        </p:blipFill>
        <p:spPr>
          <a:xfrm>
            <a:off x="4716360" y="1687680"/>
            <a:ext cx="417672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The Arctic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42" name="Picture 4" descr="mso259F9"/>
          <p:cNvPicPr/>
          <p:nvPr/>
        </p:nvPicPr>
        <p:blipFill>
          <a:blip r:embed="rId1"/>
          <a:stretch/>
        </p:blipFill>
        <p:spPr>
          <a:xfrm>
            <a:off x="4788000" y="1557360"/>
            <a:ext cx="4106880" cy="4392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msoD5BCB"/>
          <p:cNvPicPr/>
          <p:nvPr/>
        </p:nvPicPr>
        <p:blipFill>
          <a:blip r:embed="rId2"/>
          <a:stretch/>
        </p:blipFill>
        <p:spPr>
          <a:xfrm>
            <a:off x="468360" y="1630440"/>
            <a:ext cx="417672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The Seashore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45" name="Picture 4" descr="mso31A45"/>
          <p:cNvPicPr/>
          <p:nvPr/>
        </p:nvPicPr>
        <p:blipFill>
          <a:blip r:embed="rId1"/>
          <a:stretch/>
        </p:blipFill>
        <p:spPr>
          <a:xfrm>
            <a:off x="250920" y="1557360"/>
            <a:ext cx="4392360" cy="439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mso22EF7"/>
          <p:cNvPicPr/>
          <p:nvPr/>
        </p:nvPicPr>
        <p:blipFill>
          <a:blip r:embed="rId2"/>
          <a:stretch/>
        </p:blipFill>
        <p:spPr>
          <a:xfrm>
            <a:off x="4716360" y="1557360"/>
            <a:ext cx="4195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20:31:09Z</dcterms:created>
  <dc:creator>Bella Griffiths</dc:creator>
  <dc:description/>
  <dc:language>en-US</dc:language>
  <cp:lastModifiedBy>RomaK</cp:lastModifiedBy>
  <dcterms:modified xsi:type="dcterms:W3CDTF">2015-09-04T10:41:22Z</dcterms:modified>
  <cp:revision>46</cp:revision>
  <dc:subject/>
  <dc:title>Slide 1</dc:title>
</cp:coreProperties>
</file>